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peopleooo.wav" ContentType="audio/x-wav"/>
  <Override PartName="/ppt/media/byipee04.wav" ContentType="audio/x-wav"/>
  <Override PartName="/ppt/media/jetflyby.wav" ContentType="audio/x-wav"/>
  <Override PartName="/ppt/media/CHIMES.WAV" ContentType="audio/x-wav"/>
  <Override PartName="/ppt/media/drmrol03.wav" ContentType="audio/x-wav"/>
  <Override PartName="/ppt/media/bbeeps04.wav" ContentType="audio/x-wav"/>
  <Override PartName="/ppt/media/EXPLODE.WAV" ContentType="audio/x-wav"/>
  <Override PartName="/ppt/media/image4.wmf" ContentType="image/x-wmf"/>
  <Override PartName="/ppt/media/GUNSHOT.WAV" ContentType="audio/x-wav"/>
  <Override PartName="/ppt/media/highchime.wav" ContentType="audio/x-wav"/>
  <Override PartName="/ppt/media/zipdn102.wav" ContentType="audio/x-wav"/>
  <Override PartName="/ppt/media/image3.wmf" ContentType="image/x-wmf"/>
  <Override PartName="/ppt/media/hzipup01.wav" ContentType="audio/x-wav"/>
  <Override PartName="/ppt/media/image9.gif" ContentType="image/gif"/>
  <Override PartName="/ppt/media/image5.wmf" ContentType="image/x-wmf"/>
  <Override PartName="/ppt/media/image10.gif" ContentType="image/gif"/>
  <Override PartName="/ppt/media/jetflyby2.wav" ContentType="audio/x-wav"/>
  <Override PartName="/ppt/media/WHOOSH.WAV" ContentType="audio/x-wav"/>
  <Override PartName="/ppt/media/image2.wmf" ContentType="image/x-wmf"/>
  <Override PartName="/ppt/media/boinng04.wav" ContentType="audio/x-wav"/>
  <Override PartName="/ppt/media/partyhorn.wav" ContentType="audio/x-wav"/>
  <Override PartName="/ppt/media/image1.wmf" ContentType="image/x-wmf"/>
  <Override PartName="/ppt/media/image6.wmf" ContentType="image/x-wmf"/>
  <Override PartName="/ppt/media/caralarmoff.wav" ContentType="audio/x-wav"/>
  <Override PartName="/ppt/media/DRIVEBY.WAV" ContentType="audio/x-wav"/>
  <Override PartName="/ppt/media/image8.wmf" ContentType="image/x-wmf"/>
  <Override PartName="/ppt/media/bserie06.wav" ContentType="audio/x-wav"/>
  <Override PartName="/ppt/media/cricket.wav" ContentType="audio/x-wav"/>
  <Override PartName="/ppt/media/image7.wmf" ContentType="image/x-wmf"/>
  <Override PartName="/ppt/media/children%20wow.wav" ContentType="audio/x-wav"/>
  <Override PartName="/ppt/media/owl.wav" ContentType="audio/x-wav"/>
  <Override PartName="/ppt/media/zapbig0g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4E98-F436-47AB-A74A-CC8EFFB28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CEFD-A026-4F37-98E4-A3D6A761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4338-903A-465A-B4A9-7C43404AA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32C3-C4FA-4B7A-BFBF-CCA9D39BA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A17B-AA7F-480E-B337-8F5944AB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A12E-1CD8-4344-BBEB-B0DFDD90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420A-DC0C-4696-B150-060E10D1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E274-C015-4AA8-849B-37EFB81C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FA0B-DF5D-4C34-B54C-CE8CBC40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67A1-32C9-4647-BE19-D9BD09C8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D239-5FA7-408E-8692-9331B114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7E5A-3F2F-4B28-A6D8-286FA34C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3B58-6654-4622-93E5-2C7D1952E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audio" Target="../media/WHOOSH.WAV"/><Relationship Id="rId6" Type="http://schemas.openxmlformats.org/officeDocument/2006/relationships/audio" Target="../media/GUNSHOT.WAV"/><Relationship Id="rId7" Type="http://schemas.openxmlformats.org/officeDocument/2006/relationships/audio" Target="../media/drmrol03.wav"/><Relationship Id="rId8" Type="http://schemas.openxmlformats.org/officeDocument/2006/relationships/audio" Target="../media/jetflyby.wav"/><Relationship Id="rId9" Type="http://schemas.openxmlformats.org/officeDocument/2006/relationships/audio" Target="../media/zipdn102.wav"/><Relationship Id="rId10" Type="http://schemas.openxmlformats.org/officeDocument/2006/relationships/audio" Target="../media/boinng04.wav"/><Relationship Id="rId11" Type="http://schemas.openxmlformats.org/officeDocument/2006/relationships/audio" Target="../media/zipdn102.wav"/><Relationship Id="rId12" Type="http://schemas.openxmlformats.org/officeDocument/2006/relationships/audio" Target="../media/bbeeps04.wav"/><Relationship Id="rId13" Type="http://schemas.openxmlformats.org/officeDocument/2006/relationships/audio" Target="../media/bbeeps04.wav"/><Relationship Id="rId14" Type="http://schemas.openxmlformats.org/officeDocument/2006/relationships/audio" Target="../media/zipdn102.wav"/><Relationship Id="rId15" Type="http://schemas.openxmlformats.org/officeDocument/2006/relationships/audio" Target="../media/zipdn102.wav"/><Relationship Id="rId16" Type="http://schemas.openxmlformats.org/officeDocument/2006/relationships/audio" Target="../media/hzipup01.wav"/><Relationship Id="rId17" Type="http://schemas.openxmlformats.org/officeDocument/2006/relationships/audio" Target="../media/hzipup01.wav"/><Relationship Id="rId18" Type="http://schemas.openxmlformats.org/officeDocument/2006/relationships/audio" Target="../media/hzipup01.wav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audio" Target="../media/caralarmoff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bbeeps04.wav"/><Relationship Id="rId10" Type="http://schemas.openxmlformats.org/officeDocument/2006/relationships/audio" Target="../media/partyhorn.wav"/><Relationship Id="rId11" Type="http://schemas.openxmlformats.org/officeDocument/2006/relationships/audio" Target="../media/partyhorn.wav"/><Relationship Id="rId12" Type="http://schemas.openxmlformats.org/officeDocument/2006/relationships/audio" Target="../media/partyhorn.wav"/><Relationship Id="rId13" Type="http://schemas.openxmlformats.org/officeDocument/2006/relationships/audio" Target="../media/partyhorn.wav"/><Relationship Id="rId14" Type="http://schemas.openxmlformats.org/officeDocument/2006/relationships/audio" Target="../media/partyhorn.wav"/><Relationship Id="rId15" Type="http://schemas.openxmlformats.org/officeDocument/2006/relationships/audio" Target="../media/bbeeps04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bserie06.wav"/><Relationship Id="rId20" Type="http://schemas.openxmlformats.org/officeDocument/2006/relationships/audio" Target="../media/zapbig0g.wav"/><Relationship Id="rId21" Type="http://schemas.openxmlformats.org/officeDocument/2006/relationships/audio" Target="../media/zapbig0g.wav"/><Relationship Id="rId22" Type="http://schemas.openxmlformats.org/officeDocument/2006/relationships/audio" Target="../media/byipee04.wav"/><Relationship Id="rId2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zipup01.wav"/><Relationship Id="rId3" Type="http://schemas.openxmlformats.org/officeDocument/2006/relationships/audio" Target="../media/hzipup01.wav"/><Relationship Id="rId4" Type="http://schemas.openxmlformats.org/officeDocument/2006/relationships/audio" Target="../media/cricket.wav"/><Relationship Id="rId5" Type="http://schemas.openxmlformats.org/officeDocument/2006/relationships/audio" Target="../media/cricket.wav"/><Relationship Id="rId6" Type="http://schemas.openxmlformats.org/officeDocument/2006/relationships/audio" Target="../media/cricket.wav"/><Relationship Id="rId7" Type="http://schemas.openxmlformats.org/officeDocument/2006/relationships/audio" Target="../media/hzipup01.wav"/><Relationship Id="rId8" Type="http://schemas.openxmlformats.org/officeDocument/2006/relationships/audio" Target="../media/cricket.wav"/><Relationship Id="rId9" Type="http://schemas.openxmlformats.org/officeDocument/2006/relationships/audio" Target="../media/cricket.wav"/><Relationship Id="rId10" Type="http://schemas.openxmlformats.org/officeDocument/2006/relationships/audio" Target="../media/children%20wow.wav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bserie06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GUNSHOT.WAV"/><Relationship Id="rId14" Type="http://schemas.openxmlformats.org/officeDocument/2006/relationships/audio" Target="../media/GUNSHOT.WAV"/><Relationship Id="rId15" Type="http://schemas.openxmlformats.org/officeDocument/2006/relationships/audio" Target="../media/GUNSHOT.WAV"/><Relationship Id="rId16" Type="http://schemas.openxmlformats.org/officeDocument/2006/relationships/audio" Target="../media/bserie06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audio" Target="../media/bserie06.wav"/><Relationship Id="rId22" Type="http://schemas.openxmlformats.org/officeDocument/2006/relationships/audio" Target="../media/children%20wow.wav"/><Relationship Id="rId23" Type="http://schemas.openxmlformats.org/officeDocument/2006/relationships/audio" Target="../media/bbeeps04.wav"/><Relationship Id="rId24" Type="http://schemas.openxmlformats.org/officeDocument/2006/relationships/audio" Target="../media/bbeeps04.wav"/><Relationship Id="rId25" Type="http://schemas.openxmlformats.org/officeDocument/2006/relationships/audio" Target="../media/bbeeps04.wav"/><Relationship Id="rId26" Type="http://schemas.openxmlformats.org/officeDocument/2006/relationships/audio" Target="../media/bbeeps04.wav"/><Relationship Id="rId27" Type="http://schemas.openxmlformats.org/officeDocument/2006/relationships/audio" Target="../media/partyhorn.wav"/><Relationship Id="rId28" Type="http://schemas.openxmlformats.org/officeDocument/2006/relationships/audio" Target="../media/partyhorn.wav"/><Relationship Id="rId29" Type="http://schemas.openxmlformats.org/officeDocument/2006/relationships/audio" Target="../media/bbeeps04.wav"/><Relationship Id="rId30" Type="http://schemas.openxmlformats.org/officeDocument/2006/relationships/audio" Target="../media/zipdn102.wav"/><Relationship Id="rId31" Type="http://schemas.openxmlformats.org/officeDocument/2006/relationships/audio" Target="../media/zipdn102.wav"/><Relationship Id="rId32" Type="http://schemas.openxmlformats.org/officeDocument/2006/relationships/audio" Target="../media/peopleooo.wav"/><Relationship Id="rId3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audio" Target="../media/CHIMES.WAV"/><Relationship Id="rId14" Type="http://schemas.openxmlformats.org/officeDocument/2006/relationships/audio" Target="../media/partyhorn.wav"/><Relationship Id="rId15" Type="http://schemas.openxmlformats.org/officeDocument/2006/relationships/audio" Target="../media/partyhorn.wav"/><Relationship Id="rId16" Type="http://schemas.openxmlformats.org/officeDocument/2006/relationships/audio" Target="../media/jetflyby.wav"/><Relationship Id="rId17" Type="http://schemas.openxmlformats.org/officeDocument/2006/relationships/audio" Target="../media/bbeeps04.wav"/><Relationship Id="rId18" Type="http://schemas.openxmlformats.org/officeDocument/2006/relationships/audio" Target="../media/bbeeps04.wav"/><Relationship Id="rId19" Type="http://schemas.openxmlformats.org/officeDocument/2006/relationships/audio" Target="../media/zipdn102.wav"/><Relationship Id="rId20" Type="http://schemas.openxmlformats.org/officeDocument/2006/relationships/audio" Target="../media/zipdn102.wav"/><Relationship Id="rId21" Type="http://schemas.openxmlformats.org/officeDocument/2006/relationships/audio" Target="../media/hzipup01.wav"/><Relationship Id="rId22" Type="http://schemas.openxmlformats.org/officeDocument/2006/relationships/audio" Target="../media/hzipup01.wav"/><Relationship Id="rId2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audio" Target="../media/CHIMES.WAV"/><Relationship Id="rId6" Type="http://schemas.openxmlformats.org/officeDocument/2006/relationships/audio" Target="../media/bbeeps04.wav"/><Relationship Id="rId7" Type="http://schemas.openxmlformats.org/officeDocument/2006/relationships/audio" Target="../media/bbeeps04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drmrol03.wav"/><Relationship Id="rId3" Type="http://schemas.openxmlformats.org/officeDocument/2006/relationships/audio" Target="../media/DRIVEBY.WAV"/><Relationship Id="rId4" Type="http://schemas.openxmlformats.org/officeDocument/2006/relationships/audio" Target="../media/hzipup01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hzipup01.wav"/><Relationship Id="rId10" Type="http://schemas.openxmlformats.org/officeDocument/2006/relationships/audio" Target="../media/hzipup01.wav"/><Relationship Id="rId11" Type="http://schemas.openxmlformats.org/officeDocument/2006/relationships/audio" Target="../media/cricket.wav"/><Relationship Id="rId12" Type="http://schemas.openxmlformats.org/officeDocument/2006/relationships/audio" Target="../media/cricket.wav"/><Relationship Id="rId13" Type="http://schemas.openxmlformats.org/officeDocument/2006/relationships/audio" Target="../media/cricket.wav"/><Relationship Id="rId14" Type="http://schemas.openxmlformats.org/officeDocument/2006/relationships/audio" Target="../media/hzipup01.wav"/><Relationship Id="rId15" Type="http://schemas.openxmlformats.org/officeDocument/2006/relationships/audio" Target="../media/cricket.wav"/><Relationship Id="rId16" Type="http://schemas.openxmlformats.org/officeDocument/2006/relationships/audio" Target="../media/cricket.wav"/><Relationship Id="rId17" Type="http://schemas.openxmlformats.org/officeDocument/2006/relationships/audio" Target="../media/children%20wow.wav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owl.wav"/><Relationship Id="rId2" Type="http://schemas.openxmlformats.org/officeDocument/2006/relationships/audio" Target="../media/hzipup01.wav"/><Relationship Id="rId3" Type="http://schemas.openxmlformats.org/officeDocument/2006/relationships/audio" Target="../media/hzipup01.wav"/><Relationship Id="rId4" Type="http://schemas.openxmlformats.org/officeDocument/2006/relationships/audio" Target="../media/bbeeps04.wav"/><Relationship Id="rId5" Type="http://schemas.openxmlformats.org/officeDocument/2006/relationships/audio" Target="../media/partyhorn.wav"/><Relationship Id="rId6" Type="http://schemas.openxmlformats.org/officeDocument/2006/relationships/audio" Target="../media/partyhorn.wav"/><Relationship Id="rId7" Type="http://schemas.openxmlformats.org/officeDocument/2006/relationships/audio" Target="../media/partyhorn.wav"/><Relationship Id="rId8" Type="http://schemas.openxmlformats.org/officeDocument/2006/relationships/audio" Target="../media/partyhorn.wav"/><Relationship Id="rId9" Type="http://schemas.openxmlformats.org/officeDocument/2006/relationships/audio" Target="../media/partyhorn.wav"/><Relationship Id="rId10" Type="http://schemas.openxmlformats.org/officeDocument/2006/relationships/audio" Target="../media/bbeeps04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audio" Target="../media/byipee04.wav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peopleooo.wav"/><Relationship Id="rId5" Type="http://schemas.openxmlformats.org/officeDocument/2006/relationships/audio" Target="../media/bbeeps04.wav"/><Relationship Id="rId6" Type="http://schemas.openxmlformats.org/officeDocument/2006/relationships/audio" Target="../media/bbeeps04.wav"/><Relationship Id="rId7" Type="http://schemas.openxmlformats.org/officeDocument/2006/relationships/audio" Target="../media/bbeeps04.wav"/><Relationship Id="rId8" Type="http://schemas.openxmlformats.org/officeDocument/2006/relationships/audio" Target="../media/bbeeps04.wav"/><Relationship Id="rId9" Type="http://schemas.openxmlformats.org/officeDocument/2006/relationships/audio" Target="../media/partyhorn.wav"/><Relationship Id="rId10" Type="http://schemas.openxmlformats.org/officeDocument/2006/relationships/audio" Target="../media/partyhorn.wav"/><Relationship Id="rId11" Type="http://schemas.openxmlformats.org/officeDocument/2006/relationships/audio" Target="../media/bbeeps04.wav"/><Relationship Id="rId12" Type="http://schemas.openxmlformats.org/officeDocument/2006/relationships/audio" Target="../media/zipdn102.wav"/><Relationship Id="rId13" Type="http://schemas.openxmlformats.org/officeDocument/2006/relationships/audio" Target="../media/zipdn102.wav"/><Relationship Id="rId14" Type="http://schemas.openxmlformats.org/officeDocument/2006/relationships/audio" Target="../media/peopleooo.wav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audio" Target="../media/WHOOSH.WAV"/><Relationship Id="rId6" Type="http://schemas.openxmlformats.org/officeDocument/2006/relationships/audio" Target="../media/caralarmoff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zipup01.wav"/><Relationship Id="rId14" Type="http://schemas.openxmlformats.org/officeDocument/2006/relationships/audio" Target="../media/hzipup01.wav"/><Relationship Id="rId15" Type="http://schemas.openxmlformats.org/officeDocument/2006/relationships/audio" Target="../media/hzipup01.wav"/><Relationship Id="rId16" Type="http://schemas.openxmlformats.org/officeDocument/2006/relationships/audio" Target="../media/bbeeps04.wav"/><Relationship Id="rId17" Type="http://schemas.openxmlformats.org/officeDocument/2006/relationships/audio" Target="../media/partyhorn.wav"/><Relationship Id="rId18" Type="http://schemas.openxmlformats.org/officeDocument/2006/relationships/audio" Target="../media/partyhorn.wav"/><Relationship Id="rId19" Type="http://schemas.openxmlformats.org/officeDocument/2006/relationships/audio" Target="../media/partyhorn.wav"/><Relationship Id="rId20" Type="http://schemas.openxmlformats.org/officeDocument/2006/relationships/audio" Target="../media/partyhorn.wav"/><Relationship Id="rId21" Type="http://schemas.openxmlformats.org/officeDocument/2006/relationships/audio" Target="../media/partyhorn.wav"/><Relationship Id="rId22" Type="http://schemas.openxmlformats.org/officeDocument/2006/relationships/audio" Target="../media/bbeeps04.wav"/><Relationship Id="rId23" Type="http://schemas.openxmlformats.org/officeDocument/2006/relationships/audio" Target="../media/bserie06.wav"/><Relationship Id="rId24" Type="http://schemas.openxmlformats.org/officeDocument/2006/relationships/audio" Target="../media/bserie06.wav"/><Relationship Id="rId25" Type="http://schemas.openxmlformats.org/officeDocument/2006/relationships/audio" Target="../media/bserie06.wav"/><Relationship Id="rId26" Type="http://schemas.openxmlformats.org/officeDocument/2006/relationships/audio" Target="../media/bserie06.wav"/><Relationship Id="rId27" Type="http://schemas.openxmlformats.org/officeDocument/2006/relationships/audio" Target="../media/zapbig0g.wav"/><Relationship Id="rId28" Type="http://schemas.openxmlformats.org/officeDocument/2006/relationships/audio" Target="../media/zapbig0g.wav"/><Relationship Id="rId29" Type="http://schemas.openxmlformats.org/officeDocument/2006/relationships/audio" Target="../media/byipee04.wav"/><Relationship Id="rId3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bbeeps04.wav"/><Relationship Id="rId8" Type="http://schemas.openxmlformats.org/officeDocument/2006/relationships/audio" Target="../media/bbeeps04.wav"/><Relationship Id="rId9" Type="http://schemas.openxmlformats.org/officeDocument/2006/relationships/audio" Target="../media/bbeeps04.wav"/><Relationship Id="rId10" Type="http://schemas.openxmlformats.org/officeDocument/2006/relationships/audio" Target="../media/bbeeps04.wav"/><Relationship Id="rId11" Type="http://schemas.openxmlformats.org/officeDocument/2006/relationships/audio" Target="../media/partyhorn.wav"/><Relationship Id="rId12" Type="http://schemas.openxmlformats.org/officeDocument/2006/relationships/audio" Target="../media/partyhorn.wav"/><Relationship Id="rId13" Type="http://schemas.openxmlformats.org/officeDocument/2006/relationships/audio" Target="../media/bbeeps04.wav"/><Relationship Id="rId14" Type="http://schemas.openxmlformats.org/officeDocument/2006/relationships/audio" Target="../media/zipdn102.wav"/><Relationship Id="rId15" Type="http://schemas.openxmlformats.org/officeDocument/2006/relationships/audio" Target="../media/zipdn102.wav"/><Relationship Id="rId16" Type="http://schemas.openxmlformats.org/officeDocument/2006/relationships/audio" Target="../media/peopleooo.wav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hzipup01.wav"/><Relationship Id="rId17" Type="http://schemas.openxmlformats.org/officeDocument/2006/relationships/audio" Target="../media/hzipup01.wav"/><Relationship Id="rId18" Type="http://schemas.openxmlformats.org/officeDocument/2006/relationships/audio" Target="../media/cricket.wav"/><Relationship Id="rId19" Type="http://schemas.openxmlformats.org/officeDocument/2006/relationships/audio" Target="../media/cricket.wav"/><Relationship Id="rId20" Type="http://schemas.openxmlformats.org/officeDocument/2006/relationships/audio" Target="../media/cricket.wav"/><Relationship Id="rId21" Type="http://schemas.openxmlformats.org/officeDocument/2006/relationships/audio" Target="../media/hzipup01.wav"/><Relationship Id="rId22" Type="http://schemas.openxmlformats.org/officeDocument/2006/relationships/audio" Target="../media/cricket.wav"/><Relationship Id="rId23" Type="http://schemas.openxmlformats.org/officeDocument/2006/relationships/audio" Target="../media/cricket.wav"/><Relationship Id="rId24" Type="http://schemas.openxmlformats.org/officeDocument/2006/relationships/audio" Target="../media/children%20wow.wav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838080" y="1828800"/>
            <a:ext cx="2133720" cy="1981080"/>
            <a:chOff x="838080" y="1828800"/>
            <a:chExt cx="2133720" cy="1981080"/>
          </a:xfrm>
        </p:grpSpPr>
        <p:sp>
          <p:nvSpPr>
            <p:cNvPr id="44" name=""/>
            <p:cNvSpPr/>
            <p:nvPr/>
          </p:nvSpPr>
          <p:spPr>
            <a:xfrm>
              <a:off x="838080" y="3276360"/>
              <a:ext cx="2133720" cy="533520"/>
            </a:xfrm>
            <a:prstGeom prst="parallelogram">
              <a:avLst>
                <a:gd name="adj" fmla="val 99983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1600200" cy="1981080"/>
            </a:xfrm>
            <a:custGeom>
              <a:avLst/>
              <a:gdLst/>
              <a:ahLst/>
              <a:rect l="l" t="t" r="r" b="b"/>
              <a:pathLst>
                <a:path w="1008" h="1248">
                  <a:moveTo>
                    <a:pt x="0" y="1248"/>
                  </a:moveTo>
                  <a:lnTo>
                    <a:pt x="720" y="0"/>
                  </a:lnTo>
                  <a:lnTo>
                    <a:pt x="1008" y="1248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1143000" cy="1981080"/>
            </a:xfrm>
            <a:custGeom>
              <a:avLst/>
              <a:gdLst/>
              <a:ahLst/>
              <a:rect l="l" t="t" r="r" b="b"/>
              <a:pathLst>
                <a:path w="720" h="1248">
                  <a:moveTo>
                    <a:pt x="0" y="1248"/>
                  </a:moveTo>
                  <a:lnTo>
                    <a:pt x="336" y="912"/>
                  </a:lnTo>
                  <a:lnTo>
                    <a:pt x="720" y="0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71600" y="1828800"/>
              <a:ext cx="1600200" cy="1447560"/>
            </a:xfrm>
            <a:custGeom>
              <a:avLst/>
              <a:gdLst/>
              <a:ahLst/>
              <a:rect l="l" t="t" r="r" b="b"/>
              <a:pathLst>
                <a:path w="1008" h="912">
                  <a:moveTo>
                    <a:pt x="0" y="912"/>
                  </a:moveTo>
                  <a:lnTo>
                    <a:pt x="384" y="0"/>
                  </a:lnTo>
                  <a:lnTo>
                    <a:pt x="1008" y="91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080" y="1828800"/>
              <a:ext cx="990720" cy="1981080"/>
            </a:xfrm>
            <a:custGeom>
              <a:avLst/>
              <a:gdLst/>
              <a:ahLst/>
              <a:rect l="l" t="t" r="r" b="b"/>
              <a:pathLst>
                <a:path w="624" h="1248">
                  <a:moveTo>
                    <a:pt x="288" y="1248"/>
                  </a:moveTo>
                  <a:lnTo>
                    <a:pt x="0" y="0"/>
                  </a:lnTo>
                  <a:lnTo>
                    <a:pt x="624" y="912"/>
                  </a:lnTo>
                  <a:lnTo>
                    <a:pt x="288" y="1248"/>
                  </a:lnTo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5334120" y="3276720"/>
            <a:ext cx="990360" cy="99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809880" y="1752480"/>
            <a:ext cx="4038840" cy="4038840"/>
            <a:chOff x="3809880" y="1752480"/>
            <a:chExt cx="4038840" cy="4038840"/>
          </a:xfrm>
        </p:grpSpPr>
        <p:sp>
          <p:nvSpPr>
            <p:cNvPr id="51" name=""/>
            <p:cNvSpPr/>
            <p:nvPr/>
          </p:nvSpPr>
          <p:spPr>
            <a:xfrm>
              <a:off x="5334120" y="1752480"/>
              <a:ext cx="990360" cy="1524240"/>
            </a:xfrm>
            <a:prstGeom prst="triangle">
              <a:avLst>
                <a:gd name="adj" fmla="val 50000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5400000">
              <a:off x="6591240" y="3009600"/>
              <a:ext cx="990360" cy="1524240"/>
            </a:xfrm>
            <a:prstGeom prst="triangle">
              <a:avLst>
                <a:gd name="adj" fmla="val 50000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0800000">
              <a:off x="5333760" y="4267080"/>
              <a:ext cx="990360" cy="1524240"/>
            </a:xfrm>
            <a:prstGeom prst="triangle">
              <a:avLst>
                <a:gd name="adj" fmla="val 50000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6200000">
              <a:off x="4076640" y="3009240"/>
              <a:ext cx="990360" cy="1524240"/>
            </a:xfrm>
            <a:prstGeom prst="triangle">
              <a:avLst>
                <a:gd name="adj" fmla="val 50000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5334120" y="3276360"/>
            <a:ext cx="990360" cy="990720"/>
            <a:chOff x="5334120" y="3276360"/>
            <a:chExt cx="990360" cy="990720"/>
          </a:xfrm>
        </p:grpSpPr>
        <p:sp>
          <p:nvSpPr>
            <p:cNvPr id="56" name=""/>
            <p:cNvSpPr/>
            <p:nvPr/>
          </p:nvSpPr>
          <p:spPr>
            <a:xfrm>
              <a:off x="5334120" y="3276720"/>
              <a:ext cx="9903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34120" y="3276360"/>
              <a:ext cx="9903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1620720" y="1828800"/>
            <a:ext cx="4218120" cy="3906720"/>
            <a:chOff x="1620720" y="1828800"/>
            <a:chExt cx="4218120" cy="3906720"/>
          </a:xfrm>
        </p:grpSpPr>
        <p:grpSp>
          <p:nvGrpSpPr>
            <p:cNvPr id="59" name=""/>
            <p:cNvGrpSpPr/>
            <p:nvPr/>
          </p:nvGrpSpPr>
          <p:grpSpPr>
            <a:xfrm>
              <a:off x="1620720" y="1828800"/>
              <a:ext cx="360360" cy="1981080"/>
              <a:chOff x="1620720" y="1828800"/>
              <a:chExt cx="360360" cy="1981080"/>
            </a:xfrm>
          </p:grpSpPr>
          <p:sp>
            <p:nvSpPr>
              <p:cNvPr id="60" name=""/>
              <p:cNvSpPr/>
              <p:nvPr/>
            </p:nvSpPr>
            <p:spPr>
              <a:xfrm>
                <a:off x="1620720" y="1828800"/>
                <a:ext cx="360360" cy="1981080"/>
              </a:xfrm>
              <a:custGeom>
                <a:avLst/>
                <a:gdLst/>
                <a:ahLst/>
                <a:rect l="l" t="t" r="r" b="b"/>
                <a:pathLst>
                  <a:path w="227" h="1248">
                    <a:moveTo>
                      <a:pt x="0" y="1248"/>
                    </a:moveTo>
                    <a:lnTo>
                      <a:pt x="22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676520" y="3581280"/>
                <a:ext cx="1522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28800" y="3581280"/>
                <a:ext cx="0" cy="22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5837400" y="4255920"/>
              <a:ext cx="1440" cy="1479600"/>
            </a:xfrm>
            <a:custGeom>
              <a:avLst/>
              <a:gdLst/>
              <a:ahLst/>
              <a:rect l="l" t="t" r="r" b="b"/>
              <a:pathLst>
                <a:path w="1" h="932">
                  <a:moveTo>
                    <a:pt x="0" y="0"/>
                  </a:moveTo>
                  <a:lnTo>
                    <a:pt x="0" y="9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371600" y="3733920"/>
            <a:ext cx="4724280" cy="612000"/>
            <a:chOff x="1371600" y="3733920"/>
            <a:chExt cx="4724280" cy="612000"/>
          </a:xfrm>
        </p:grpSpPr>
        <p:sp>
          <p:nvSpPr>
            <p:cNvPr id="65" name=""/>
            <p:cNvSpPr/>
            <p:nvPr/>
          </p:nvSpPr>
          <p:spPr>
            <a:xfrm>
              <a:off x="5638680" y="3886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37160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752480" y="2743200"/>
            <a:ext cx="4419720" cy="2273040"/>
            <a:chOff x="1752480" y="2743200"/>
            <a:chExt cx="4419720" cy="2273040"/>
          </a:xfrm>
        </p:grpSpPr>
        <p:sp>
          <p:nvSpPr>
            <p:cNvPr id="68" name=""/>
            <p:cNvSpPr/>
            <p:nvPr/>
          </p:nvSpPr>
          <p:spPr>
            <a:xfrm>
              <a:off x="1752480" y="274320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cript MT Bold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67280" y="44956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cript MT Bold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0" name=""/>
          <p:cNvGraphicFramePr/>
          <p:nvPr/>
        </p:nvGraphicFramePr>
        <p:xfrm>
          <a:off x="0" y="4038480"/>
          <a:ext cx="4299120" cy="6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38480"/>
                    <a:ext cx="429912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657600" y="4419720"/>
                <a:ext cx="13716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b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73" name=""/>
          <p:cNvGraphicFramePr/>
          <p:nvPr/>
        </p:nvGraphicFramePr>
        <p:xfrm>
          <a:off x="4191120" y="5715000"/>
          <a:ext cx="3357360" cy="54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5715000"/>
                    <a:ext cx="335736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7543800" y="5618160"/>
                <a:ext cx="5904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0" y="5978520"/>
                <a:ext cx="11858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219320" y="5695920"/>
                <a:ext cx="13716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b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625840" y="5846760"/>
                <a:ext cx="9730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mrol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6  10 – 6 #1 – 6, 7 – 1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surface area of each space figure,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6080" y="1698480"/>
            <a:ext cx="882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ase of a cone has radius 3 ft. Its slant  height is 8 ft. Find the surface area of the c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343240" y="3017880"/>
          <a:ext cx="118584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3240" y="3017880"/>
                    <a:ext cx="11858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3492360" y="2760840"/>
          <a:ext cx="2667240" cy="81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2760840"/>
                    <a:ext cx="266724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711440" y="3559320"/>
                <a:ext cx="57909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1911240" y="368316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292720" y="368316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56120" y="3683160"/>
            <a:ext cx="826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51440" y="3668760"/>
            <a:ext cx="637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80080" y="3666960"/>
            <a:ext cx="685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166840" y="4368960"/>
                <a:ext cx="48722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2397240" y="4368960"/>
            <a:ext cx="1218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11840" y="4368960"/>
            <a:ext cx="1218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65440" y="4368960"/>
            <a:ext cx="798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38800" y="4383000"/>
            <a:ext cx="581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86280" y="5130720"/>
            <a:ext cx="129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75.36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02000" y="5130720"/>
            <a:ext cx="2057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+  28.26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63920" y="5816520"/>
            <a:ext cx="25909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33cc"/>
                </a:solidFill>
                <a:latin typeface="Times New Roman"/>
              </a:rPr>
              <a:t>104  ft</a:t>
            </a:r>
            <a:r>
              <a:rPr b="1" lang="en-US" sz="36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560520" y="3743280"/>
                <a:ext cx="13953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6  10 – 6 #1 – 6, 7 – 1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surface area of each space figure,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16984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ength of the base of a square pyramid is 5 cm. Its slant height is 8 cm. Find the surface area of the square pyram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2100240" y="3900600"/>
                <a:ext cx="5538960" cy="13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</m:d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4462560" y="4205160"/>
            <a:ext cx="838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41960" y="4191120"/>
            <a:ext cx="514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48560" y="4205160"/>
            <a:ext cx="45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624120" y="5348160"/>
            <a:ext cx="914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09920" y="5348160"/>
            <a:ext cx="114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+ 2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786040" y="6186600"/>
            <a:ext cx="3352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= 105 cm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938320" y="2604960"/>
                <a:ext cx="373392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bl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557440" y="5424480"/>
                <a:ext cx="13953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3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4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5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6  10 – 6 #1 – 6, 7 – 1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7984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ch has the greater surface area, a cylinder with height 2 in. and radius of base 2 in., or a sphere with radius 2 in.? Justify your ans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3560" y="2786040"/>
            <a:ext cx="2467080" cy="1582920"/>
          </a:xfrm>
          <a:prstGeom prst="can">
            <a:avLst>
              <a:gd name="adj" fmla="val 25000"/>
            </a:avLst>
          </a:prstGeom>
          <a:solidFill>
            <a:srgbClr val="00ff00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1755360" y="2975040"/>
            <a:ext cx="1190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973240" y="3333600"/>
            <a:ext cx="87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36880" y="2311560"/>
            <a:ext cx="87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93560" y="2975040"/>
            <a:ext cx="2452680" cy="2452680"/>
          </a:xfrm>
          <a:prstGeom prst="ellipse">
            <a:avLst/>
          </a:prstGeom>
          <a:solidFill>
            <a:srgbClr val="d60093">
              <a:alpha val="4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3560" y="4076640"/>
            <a:ext cx="2467080" cy="276120"/>
          </a:xfrm>
          <a:prstGeom prst="ellipse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1763280" y="4214880"/>
            <a:ext cx="1190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43000" y="2305080"/>
            <a:ext cx="87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433692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h +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495144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(  )(  ) +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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71640" y="5027760"/>
            <a:ext cx="52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30360" y="501336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73480" y="5041800"/>
            <a:ext cx="4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5470560"/>
            <a:ext cx="596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(   )(      ) + (       )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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371600" y="5546880"/>
            <a:ext cx="63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54832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.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60920" y="55468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.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659480" y="554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320" y="6156360"/>
            <a:ext cx="62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25.12 + 25.12 = 50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38680" y="6156360"/>
            <a:ext cx="24382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60000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6637320" y="5388120"/>
                <a:ext cx="23828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6302520" y="2054160"/>
                <a:ext cx="24764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6684840" y="214776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866000" y="2162160"/>
            <a:ext cx="871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5675400" y="1685880"/>
                <a:ext cx="13460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959520" y="1500120"/>
                <a:ext cx="15242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π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110200" y="2224080"/>
                <a:ext cx="13460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6707160" y="5403960"/>
            <a:ext cx="1523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2.56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05920" y="5402160"/>
            <a:ext cx="838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140600" y="6004080"/>
            <a:ext cx="1774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33cc"/>
                </a:solidFill>
                <a:latin typeface="Times New Roman"/>
              </a:rPr>
              <a:t>50 </a:t>
            </a:r>
            <a:r>
              <a:rPr b="1" lang="en-US" sz="5000" spc="-1" strike="noStrike">
                <a:solidFill>
                  <a:srgbClr val="3333cc"/>
                </a:solidFill>
                <a:latin typeface="Times New Roman"/>
              </a:rPr>
              <a:t>in</a:t>
            </a:r>
            <a:r>
              <a:rPr b="1" lang="en-US" sz="40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7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8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9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animMotion origin="layout" path="M 0 0 L 0.45712 0 E">
                                      <p:cBhvr>
                                        <p:cTn id="901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animMotion origin="layout" path="M 0 0 L 0.45712 0 E">
                                      <p:cBhvr>
                                        <p:cTn id="903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animMotion origin="layout" path="M 0 0 L 0.45712 0 E">
                                      <p:cBhvr>
                                        <p:cTn id="905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animMotion origin="layout" path="M -4.16667E-006 -3.46821E-006 L 0.44757 0.19237 E">
                                      <p:cBhvr>
                                        <p:cTn id="907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6  10 – 6 #1 – 6, 7 – 1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57200" y="990720"/>
            <a:ext cx="2438280" cy="2409840"/>
            <a:chOff x="457200" y="990720"/>
            <a:chExt cx="2438280" cy="2409840"/>
          </a:xfrm>
        </p:grpSpPr>
        <p:sp>
          <p:nvSpPr>
            <p:cNvPr id="82" name=""/>
            <p:cNvSpPr/>
            <p:nvPr/>
          </p:nvSpPr>
          <p:spPr>
            <a:xfrm>
              <a:off x="457200" y="990720"/>
              <a:ext cx="2438280" cy="1599840"/>
            </a:xfrm>
            <a:custGeom>
              <a:avLst/>
              <a:gdLst/>
              <a:ahLst/>
              <a:rect l="l" t="t" r="r" b="b"/>
              <a:pathLst>
                <a:path w="1536" h="1008">
                  <a:moveTo>
                    <a:pt x="0" y="1008"/>
                  </a:moveTo>
                  <a:lnTo>
                    <a:pt x="720" y="0"/>
                  </a:lnTo>
                  <a:lnTo>
                    <a:pt x="1536" y="1008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" y="2438280"/>
              <a:ext cx="2438280" cy="380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43000" y="2819160"/>
              <a:ext cx="167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on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5029200" y="3352680"/>
            <a:ext cx="1600200" cy="160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38098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495680" y="1582560"/>
            <a:ext cx="2757600" cy="1828440"/>
            <a:chOff x="4495680" y="1582560"/>
            <a:chExt cx="2757600" cy="1828440"/>
          </a:xfrm>
        </p:grpSpPr>
        <p:sp>
          <p:nvSpPr>
            <p:cNvPr id="88" name=""/>
            <p:cNvSpPr/>
            <p:nvPr/>
          </p:nvSpPr>
          <p:spPr>
            <a:xfrm flipH="1">
              <a:off x="4495680" y="1582560"/>
              <a:ext cx="137160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867280" y="1582560"/>
              <a:ext cx="137160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" name=""/>
            <p:cNvCxnSpPr>
              <a:stCxn id="88" idx="0"/>
              <a:endCxn id="89" idx="0"/>
            </p:cNvCxnSpPr>
            <p:nvPr/>
          </p:nvCxnSpPr>
          <p:spPr>
            <a:xfrm flipH="1" rot="16200000">
              <a:off x="5866200" y="1752840"/>
              <a:ext cx="2520" cy="2743920"/>
            </a:xfrm>
            <a:prstGeom prst="curvedConnector5">
              <a:avLst>
                <a:gd name="adj1" fmla="val 13300000"/>
                <a:gd name="adj2" fmla="val 49993"/>
                <a:gd name="adj3" fmla="val 133000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91" name=""/>
            <p:cNvSpPr/>
            <p:nvPr/>
          </p:nvSpPr>
          <p:spPr>
            <a:xfrm>
              <a:off x="4495680" y="1600200"/>
              <a:ext cx="2757600" cy="1752480"/>
            </a:xfrm>
            <a:custGeom>
              <a:avLst/>
              <a:gdLst/>
              <a:ahLst/>
              <a:rect l="l" t="t" r="r" b="b"/>
              <a:pathLst>
                <a:path w="1737" h="1104">
                  <a:moveTo>
                    <a:pt x="0" y="960"/>
                  </a:moveTo>
                  <a:lnTo>
                    <a:pt x="864" y="0"/>
                  </a:lnTo>
                  <a:cubicBezTo>
                    <a:pt x="1152" y="320"/>
                    <a:pt x="1450" y="632"/>
                    <a:pt x="1728" y="960"/>
                  </a:cubicBezTo>
                  <a:cubicBezTo>
                    <a:pt x="1737" y="971"/>
                    <a:pt x="1699" y="964"/>
                    <a:pt x="1687" y="971"/>
                  </a:cubicBezTo>
                  <a:cubicBezTo>
                    <a:pt x="1683" y="973"/>
                    <a:pt x="1687" y="980"/>
                    <a:pt x="1687" y="984"/>
                  </a:cubicBezTo>
                  <a:lnTo>
                    <a:pt x="1440" y="1056"/>
                  </a:lnTo>
                  <a:lnTo>
                    <a:pt x="1104" y="1104"/>
                  </a:lnTo>
                  <a:lnTo>
                    <a:pt x="672" y="1104"/>
                  </a:lnTo>
                  <a:lnTo>
                    <a:pt x="336" y="1056"/>
                  </a:lnTo>
                  <a:lnTo>
                    <a:pt x="144" y="1008"/>
                  </a:lnTo>
                  <a:lnTo>
                    <a:pt x="0" y="960"/>
                  </a:lnTo>
                  <a:close/>
                </a:path>
              </a:pathLst>
            </a:cu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2" name=""/>
          <p:cNvGraphicFramePr/>
          <p:nvPr/>
        </p:nvGraphicFramePr>
        <p:xfrm>
          <a:off x="685800" y="4191120"/>
          <a:ext cx="1701720" cy="50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91120"/>
                    <a:ext cx="170172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94" name=""/>
          <p:cNvCxnSpPr>
            <a:stCxn id="91" idx="0"/>
          </p:cNvCxnSpPr>
          <p:nvPr/>
        </p:nvCxnSpPr>
        <p:spPr>
          <a:xfrm flipV="1" rot="10800000">
            <a:off x="685080" y="3122640"/>
            <a:ext cx="3810600" cy="1321200"/>
          </a:xfrm>
          <a:prstGeom prst="curvedConnector5">
            <a:avLst>
              <a:gd name="adj1" fmla="val 105999"/>
              <a:gd name="adj2" fmla="val 49986"/>
              <a:gd name="adj3" fmla="val 10599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95" name=""/>
          <p:cNvGraphicFramePr/>
          <p:nvPr/>
        </p:nvGraphicFramePr>
        <p:xfrm>
          <a:off x="2438280" y="4114800"/>
          <a:ext cx="97308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4114800"/>
                    <a:ext cx="97308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781680" y="3581280"/>
          <a:ext cx="1702080" cy="50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81680" y="3581280"/>
                    <a:ext cx="170208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7238880" y="4038480"/>
          <a:ext cx="936720" cy="677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4038480"/>
                    <a:ext cx="93672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981080" y="5715000"/>
          <a:ext cx="118584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5715000"/>
                    <a:ext cx="11858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3276720" y="5486400"/>
          <a:ext cx="2666880" cy="81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76720" y="5486400"/>
                    <a:ext cx="266688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62120" y="1371600"/>
            <a:ext cx="2361960" cy="2516400"/>
            <a:chOff x="762120" y="1371600"/>
            <a:chExt cx="2361960" cy="2516400"/>
          </a:xfrm>
        </p:grpSpPr>
        <p:sp>
          <p:nvSpPr>
            <p:cNvPr id="108" name=""/>
            <p:cNvSpPr/>
            <p:nvPr/>
          </p:nvSpPr>
          <p:spPr>
            <a:xfrm>
              <a:off x="990360" y="1371600"/>
              <a:ext cx="2057040" cy="1981080"/>
            </a:xfrm>
            <a:prstGeom prst="ellipse">
              <a:avLst/>
            </a:prstGeom>
            <a:solidFill>
              <a:srgbClr val="ff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90360" y="2209680"/>
              <a:ext cx="2057040" cy="38124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3306600"/>
              <a:ext cx="236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phe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1" name=""/>
          <p:cNvGraphicFramePr/>
          <p:nvPr/>
        </p:nvGraphicFramePr>
        <p:xfrm>
          <a:off x="4114800" y="2133720"/>
          <a:ext cx="118584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2133720"/>
                    <a:ext cx="11858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486400" y="1905120"/>
          <a:ext cx="1487520" cy="81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1905120"/>
                    <a:ext cx="148752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666880" y="3124080"/>
                <a:ext cx="553896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</m:d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295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d the surface area of each fig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09480" y="1828800"/>
            <a:ext cx="2057400" cy="3124080"/>
            <a:chOff x="609480" y="1828800"/>
            <a:chExt cx="2057400" cy="3124080"/>
          </a:xfrm>
        </p:grpSpPr>
        <p:grpSp>
          <p:nvGrpSpPr>
            <p:cNvPr id="120" name=""/>
            <p:cNvGrpSpPr/>
            <p:nvPr/>
          </p:nvGrpSpPr>
          <p:grpSpPr>
            <a:xfrm>
              <a:off x="609480" y="1828800"/>
              <a:ext cx="2057400" cy="3124080"/>
              <a:chOff x="609480" y="1828800"/>
              <a:chExt cx="2057400" cy="3124080"/>
            </a:xfrm>
          </p:grpSpPr>
          <p:sp>
            <p:nvSpPr>
              <p:cNvPr id="121" name=""/>
              <p:cNvSpPr/>
              <p:nvPr/>
            </p:nvSpPr>
            <p:spPr>
              <a:xfrm>
                <a:off x="609480" y="3352680"/>
                <a:ext cx="2057400" cy="1600200"/>
              </a:xfrm>
              <a:custGeom>
                <a:avLst/>
                <a:gdLst/>
                <a:ahLst/>
                <a:rect l="l" t="t" r="r" b="b"/>
                <a:pathLst>
                  <a:path w="1296" h="1008">
                    <a:moveTo>
                      <a:pt x="0" y="240"/>
                    </a:moveTo>
                    <a:lnTo>
                      <a:pt x="528" y="1008"/>
                    </a:lnTo>
                    <a:lnTo>
                      <a:pt x="1296" y="768"/>
                    </a:lnTo>
                    <a:lnTo>
                      <a:pt x="768" y="0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09480" y="1828800"/>
                <a:ext cx="1143000" cy="3124080"/>
              </a:xfrm>
              <a:custGeom>
                <a:avLst/>
                <a:gdLst/>
                <a:ahLst/>
                <a:rect l="l" t="t" r="r" b="b"/>
                <a:pathLst>
                  <a:path w="720" h="1968">
                    <a:moveTo>
                      <a:pt x="0" y="1200"/>
                    </a:moveTo>
                    <a:lnTo>
                      <a:pt x="528" y="1968"/>
                    </a:lnTo>
                    <a:lnTo>
                      <a:pt x="720" y="0"/>
                    </a:lnTo>
                    <a:lnTo>
                      <a:pt x="0" y="1200"/>
                    </a:lnTo>
                    <a:close/>
                  </a:path>
                </a:pathLst>
              </a:custGeom>
              <a:solidFill>
                <a:srgbClr val="ff6600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09480" y="1828800"/>
                <a:ext cx="1219320" cy="1905120"/>
              </a:xfrm>
              <a:custGeom>
                <a:avLst/>
                <a:gdLst/>
                <a:ahLst/>
                <a:rect l="l" t="t" r="r" b="b"/>
                <a:pathLst>
                  <a:path w="768" h="1200">
                    <a:moveTo>
                      <a:pt x="0" y="1200"/>
                    </a:moveTo>
                    <a:lnTo>
                      <a:pt x="768" y="960"/>
                    </a:lnTo>
                    <a:lnTo>
                      <a:pt x="720" y="0"/>
                    </a:lnTo>
                    <a:lnTo>
                      <a:pt x="0" y="1200"/>
                    </a:lnTo>
                    <a:close/>
                  </a:path>
                </a:pathLst>
              </a:custGeom>
              <a:solidFill>
                <a:srgbClr val="ff6600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52480" y="1828800"/>
                <a:ext cx="914400" cy="2743200"/>
              </a:xfrm>
              <a:custGeom>
                <a:avLst/>
                <a:gdLst/>
                <a:ahLst/>
                <a:rect l="l" t="t" r="r" b="b"/>
                <a:pathLst>
                  <a:path w="576" h="1728">
                    <a:moveTo>
                      <a:pt x="48" y="960"/>
                    </a:moveTo>
                    <a:lnTo>
                      <a:pt x="576" y="1728"/>
                    </a:lnTo>
                    <a:lnTo>
                      <a:pt x="0" y="0"/>
                    </a:lnTo>
                    <a:lnTo>
                      <a:pt x="48" y="960"/>
                    </a:lnTo>
                    <a:close/>
                  </a:path>
                </a:pathLst>
              </a:custGeom>
              <a:solidFill>
                <a:srgbClr val="ff6600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447920" y="1828800"/>
                <a:ext cx="1218960" cy="3124080"/>
              </a:xfrm>
              <a:custGeom>
                <a:avLst/>
                <a:gdLst/>
                <a:ahLst/>
                <a:rect l="l" t="t" r="r" b="b"/>
                <a:pathLst>
                  <a:path w="768" h="1968">
                    <a:moveTo>
                      <a:pt x="0" y="1968"/>
                    </a:moveTo>
                    <a:lnTo>
                      <a:pt x="768" y="1728"/>
                    </a:lnTo>
                    <a:lnTo>
                      <a:pt x="192" y="0"/>
                    </a:lnTo>
                    <a:lnTo>
                      <a:pt x="0" y="1968"/>
                    </a:lnTo>
                    <a:close/>
                  </a:path>
                </a:pathLst>
              </a:custGeom>
              <a:solidFill>
                <a:srgbClr val="ff6600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762120" y="1981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752480" y="1905120"/>
            <a:ext cx="38124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828440" y="4419720"/>
            <a:ext cx="228600" cy="425160"/>
            <a:chOff x="1828440" y="4419720"/>
            <a:chExt cx="228600" cy="425160"/>
          </a:xfrm>
        </p:grpSpPr>
        <p:sp>
          <p:nvSpPr>
            <p:cNvPr id="129" name=""/>
            <p:cNvSpPr/>
            <p:nvPr/>
          </p:nvSpPr>
          <p:spPr>
            <a:xfrm flipH="1">
              <a:off x="1828440" y="4419720"/>
              <a:ext cx="228600" cy="759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28800" y="4495680"/>
              <a:ext cx="36360" cy="349200"/>
            </a:xfrm>
            <a:custGeom>
              <a:avLst/>
              <a:gdLst/>
              <a:ahLst/>
              <a:rect l="l" t="t" r="r" b="b"/>
              <a:pathLst>
                <a:path w="23" h="220">
                  <a:moveTo>
                    <a:pt x="0" y="0"/>
                  </a:moveTo>
                  <a:lnTo>
                    <a:pt x="23" y="220"/>
                  </a:ln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80880" y="2209680"/>
            <a:ext cx="2895840" cy="2441160"/>
            <a:chOff x="380880" y="2209680"/>
            <a:chExt cx="2895840" cy="2441160"/>
          </a:xfrm>
        </p:grpSpPr>
        <p:sp>
          <p:nvSpPr>
            <p:cNvPr id="132" name=""/>
            <p:cNvSpPr/>
            <p:nvPr/>
          </p:nvSpPr>
          <p:spPr>
            <a:xfrm>
              <a:off x="380880" y="4191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 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90920" y="2209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 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4" name=""/>
            <p:cNvCxnSpPr/>
            <p:nvPr/>
          </p:nvCxnSpPr>
          <p:spPr>
            <a:xfrm flipH="1">
              <a:off x="1980720" y="2514600"/>
              <a:ext cx="610560" cy="10864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35" name=""/>
          <p:cNvSpPr/>
          <p:nvPr/>
        </p:nvSpPr>
        <p:spPr>
          <a:xfrm>
            <a:off x="5029200" y="3429000"/>
            <a:ext cx="838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429000"/>
            <a:ext cx="45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15200" y="3429000"/>
            <a:ext cx="45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4572000"/>
            <a:ext cx="914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4572000"/>
            <a:ext cx="114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+ 2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5410080"/>
            <a:ext cx="3353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= 105 m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505320" y="1828800"/>
                <a:ext cx="373356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bl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124080" y="4648320"/>
                <a:ext cx="13953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 flipH="1">
            <a:off x="929520" y="4286520"/>
            <a:ext cx="198000" cy="11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072520" y="3753000"/>
            <a:ext cx="198000" cy="11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62440" y="3444120"/>
            <a:ext cx="114120" cy="19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00520" y="4663440"/>
            <a:ext cx="114120" cy="19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mrol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295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d the surface area of each fig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33520" y="1905120"/>
            <a:ext cx="2743200" cy="2895480"/>
            <a:chOff x="533520" y="1905120"/>
            <a:chExt cx="2743200" cy="2895480"/>
          </a:xfrm>
        </p:grpSpPr>
        <p:sp>
          <p:nvSpPr>
            <p:cNvPr id="151" name=""/>
            <p:cNvSpPr/>
            <p:nvPr/>
          </p:nvSpPr>
          <p:spPr>
            <a:xfrm>
              <a:off x="609480" y="1905120"/>
              <a:ext cx="2362320" cy="2361960"/>
            </a:xfrm>
            <a:custGeom>
              <a:avLst/>
              <a:gdLst/>
              <a:ahLst/>
              <a:rect l="l" t="t" r="r" b="b"/>
              <a:pathLst>
                <a:path w="1488" h="1488">
                  <a:moveTo>
                    <a:pt x="0" y="1488"/>
                  </a:moveTo>
                  <a:lnTo>
                    <a:pt x="816" y="0"/>
                  </a:lnTo>
                  <a:lnTo>
                    <a:pt x="1488" y="1488"/>
                  </a:lnTo>
                  <a:lnTo>
                    <a:pt x="0" y="1488"/>
                  </a:lnTo>
                  <a:close/>
                </a:path>
              </a:pathLst>
            </a:custGeom>
            <a:solidFill>
              <a:srgbClr val="ff9966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480" y="3809880"/>
              <a:ext cx="2362320" cy="9907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52480" y="434340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520" y="2133720"/>
              <a:ext cx="685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05120" y="3886200"/>
              <a:ext cx="91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cc"/>
                  </a:solidFill>
                  <a:latin typeface="Times New Roman"/>
                </a:rPr>
                <a:t>3 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2666880"/>
              <a:ext cx="91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7 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352680" y="3352680"/>
                <a:ext cx="57913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581280" y="350532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3505320"/>
            <a:ext cx="1218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76920" y="3505320"/>
            <a:ext cx="1218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15000" y="350532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29600" y="3505320"/>
            <a:ext cx="533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876840" y="4191120"/>
                <a:ext cx="46116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4038480" y="419112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419112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57800" y="419112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772400" y="4191120"/>
            <a:ext cx="45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4952880"/>
            <a:ext cx="129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65.9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43600" y="4952880"/>
            <a:ext cx="2057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+  28.26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05520" y="5638680"/>
            <a:ext cx="25905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33cc"/>
                </a:solidFill>
                <a:latin typeface="Times New Roman"/>
              </a:rPr>
              <a:t>94.2  m</a:t>
            </a:r>
            <a:r>
              <a:rPr b="1" lang="en-US" sz="36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800600" y="2666880"/>
                <a:ext cx="13953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809880" y="1905120"/>
                <a:ext cx="41036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rℓ</m:t>
                    </m:r>
                    <m:r>
                      <m:t xml:space="preserve">+</m:t>
                    </m:r>
                    <m:r>
                      <m:t xml:space="preserve">π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ow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2962080" cy="26143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295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d the surface area of each fig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2209680"/>
            <a:ext cx="9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133720" y="2057400"/>
            <a:ext cx="2971800" cy="1371600"/>
            <a:chOff x="2133720" y="2057400"/>
            <a:chExt cx="2971800" cy="1371600"/>
          </a:xfrm>
        </p:grpSpPr>
        <p:sp>
          <p:nvSpPr>
            <p:cNvPr id="179" name=""/>
            <p:cNvSpPr/>
            <p:nvPr/>
          </p:nvSpPr>
          <p:spPr>
            <a:xfrm>
              <a:off x="2133720" y="3429000"/>
              <a:ext cx="1218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52680" y="2057400"/>
              <a:ext cx="1752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3,963 mi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1" name=""/>
            <p:cNvCxnSpPr>
              <a:stCxn id="180" idx="1"/>
            </p:cNvCxnSpPr>
            <p:nvPr/>
          </p:nvCxnSpPr>
          <p:spPr>
            <a:xfrm flipV="1" rot="10800000">
              <a:off x="2590200" y="2331720"/>
              <a:ext cx="762480" cy="10324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029200" y="3200400"/>
                <a:ext cx="378936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5486400" y="3352680"/>
            <a:ext cx="1219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10280" y="3352680"/>
            <a:ext cx="1524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,963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67080" y="4343400"/>
            <a:ext cx="1524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2.56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67280" y="4343400"/>
            <a:ext cx="4114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5,705,369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57600" y="5334120"/>
            <a:ext cx="457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33cc"/>
                </a:solidFill>
                <a:latin typeface="Times New Roman"/>
              </a:rPr>
              <a:t>197,259,434.6 </a:t>
            </a:r>
            <a:r>
              <a:rPr b="1" lang="en-US" sz="5000" spc="-1" strike="noStrike">
                <a:solidFill>
                  <a:srgbClr val="3333cc"/>
                </a:solidFill>
                <a:latin typeface="Times New Roman"/>
              </a:rPr>
              <a:t>mi</a:t>
            </a:r>
            <a:r>
              <a:rPr b="1" lang="en-US" sz="40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659480" y="2395440"/>
                <a:ext cx="13460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943600" y="2209680"/>
                <a:ext cx="15238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π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809880" y="3429000"/>
                <a:ext cx="13464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886200" y="4267080"/>
                <a:ext cx="472428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6  10 – 6 #1 – 6, 7 – 1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surface area of each space figure,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914400" y="2514600"/>
            <a:ext cx="1600200" cy="274320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2362320"/>
            <a:ext cx="1600200" cy="3045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5146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3581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19051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1828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09880" y="2057400"/>
          <a:ext cx="118584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057400"/>
                    <a:ext cx="11858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5105520" y="1828800"/>
          <a:ext cx="2666880" cy="81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828800"/>
                    <a:ext cx="266688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352680" y="3352680"/>
                <a:ext cx="57913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3581280" y="350532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34320" y="3505320"/>
            <a:ext cx="1218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724280" y="350532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62720" y="3505320"/>
            <a:ext cx="1218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077320" y="3505320"/>
            <a:ext cx="685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808440" y="4191120"/>
                <a:ext cx="48718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4038480" y="419112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419112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05520" y="4191120"/>
            <a:ext cx="1218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0120" y="4191120"/>
            <a:ext cx="914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00600" y="4952880"/>
            <a:ext cx="129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94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4952880"/>
            <a:ext cx="2057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+  3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05520" y="5638680"/>
            <a:ext cx="25905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33cc"/>
                </a:solidFill>
                <a:latin typeface="Times New Roman"/>
              </a:rPr>
              <a:t>1256  cm</a:t>
            </a:r>
            <a:r>
              <a:rPr b="1" lang="en-US" sz="36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800600" y="2666880"/>
                <a:ext cx="13953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700"/>
                            </p:stCondLst>
                            <p:childTnLst>
                              <p:par>
                                <p:cTn id="420" nodeType="after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4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962520" y="4267080"/>
                <a:ext cx="366696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6  10 – 6 #1 – 6, 7 – 1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surface area of each space figure,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2133720"/>
            <a:ext cx="99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133720" y="1904760"/>
            <a:ext cx="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33920" y="1600200"/>
            <a:ext cx="1752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9 c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</p:cNvCxnSpPr>
          <p:nvPr/>
        </p:nvCxnSpPr>
        <p:spPr>
          <a:xfrm flipV="1" rot="10800000">
            <a:off x="2133000" y="1873800"/>
            <a:ext cx="1600920" cy="6404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029200" y="3200400"/>
                <a:ext cx="306072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5486400" y="3352680"/>
            <a:ext cx="1219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010280" y="3352680"/>
            <a:ext cx="1524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659480" y="2395440"/>
                <a:ext cx="13460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5943600" y="2209680"/>
                <a:ext cx="15238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π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809880" y="3429000"/>
                <a:ext cx="13464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4267080" y="4343400"/>
            <a:ext cx="1524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2.56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77120" y="4343400"/>
            <a:ext cx="838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5257800"/>
            <a:ext cx="3124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33cc"/>
                </a:solidFill>
                <a:latin typeface="Times New Roman"/>
              </a:rPr>
              <a:t>1,017 </a:t>
            </a:r>
            <a:r>
              <a:rPr b="1" lang="en-US" sz="5000" spc="-1" strike="noStrike">
                <a:solidFill>
                  <a:srgbClr val="3333cc"/>
                </a:solidFill>
                <a:latin typeface="Times New Roman"/>
              </a:rPr>
              <a:t>cm</a:t>
            </a:r>
            <a:r>
              <a:rPr b="1" lang="en-US" sz="40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987480" y="2627280"/>
            <a:ext cx="3033720" cy="942840"/>
          </a:xfrm>
          <a:custGeom>
            <a:avLst/>
            <a:gdLst/>
            <a:ahLst/>
            <a:rect l="l" t="t" r="r" b="b"/>
            <a:pathLst>
              <a:path w="1911" h="594">
                <a:moveTo>
                  <a:pt x="0" y="457"/>
                </a:moveTo>
                <a:lnTo>
                  <a:pt x="1911" y="0"/>
                </a:lnTo>
                <a:lnTo>
                  <a:pt x="621" y="594"/>
                </a:lnTo>
                <a:lnTo>
                  <a:pt x="0" y="457"/>
                </a:lnTo>
                <a:close/>
              </a:path>
            </a:pathLst>
          </a:custGeom>
          <a:solidFill>
            <a:srgbClr val="ff9999">
              <a:alpha val="40000"/>
            </a:srgbClr>
          </a:solidFill>
          <a:ln w="22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73080" y="2192400"/>
            <a:ext cx="3105360" cy="1160280"/>
          </a:xfrm>
          <a:custGeom>
            <a:avLst/>
            <a:gdLst/>
            <a:ahLst/>
            <a:rect l="l" t="t" r="r" b="b"/>
            <a:pathLst>
              <a:path w="1956" h="731">
                <a:moveTo>
                  <a:pt x="0" y="0"/>
                </a:moveTo>
                <a:lnTo>
                  <a:pt x="0" y="731"/>
                </a:lnTo>
                <a:lnTo>
                  <a:pt x="1956" y="274"/>
                </a:lnTo>
                <a:lnTo>
                  <a:pt x="0" y="0"/>
                </a:lnTo>
                <a:close/>
              </a:path>
            </a:pathLst>
          </a:custGeom>
          <a:solidFill>
            <a:srgbClr val="ff9999">
              <a:alpha val="30000"/>
            </a:srgbClr>
          </a:solidFill>
          <a:ln w="22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6  10 – 6 #1 – 6, 7 – 1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surface area of each space figure,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flipV="1" rot="16200000">
            <a:off x="799200" y="2400120"/>
            <a:ext cx="1371600" cy="990360"/>
          </a:xfrm>
          <a:prstGeom prst="parallelogram">
            <a:avLst>
              <a:gd name="adj" fmla="val 21473"/>
            </a:avLst>
          </a:prstGeom>
          <a:solidFill>
            <a:srgbClr val="ff9999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87480" y="2192400"/>
            <a:ext cx="3076560" cy="434880"/>
          </a:xfrm>
          <a:custGeom>
            <a:avLst/>
            <a:gdLst/>
            <a:ahLst/>
            <a:rect l="l" t="t" r="r" b="b"/>
            <a:pathLst>
              <a:path w="1938" h="274">
                <a:moveTo>
                  <a:pt x="0" y="0"/>
                </a:moveTo>
                <a:lnTo>
                  <a:pt x="1938" y="274"/>
                </a:lnTo>
                <a:lnTo>
                  <a:pt x="621" y="137"/>
                </a:lnTo>
                <a:lnTo>
                  <a:pt x="0" y="0"/>
                </a:lnTo>
                <a:close/>
              </a:path>
            </a:pathLst>
          </a:custGeom>
          <a:solidFill>
            <a:srgbClr val="ff9999">
              <a:alpha val="50000"/>
            </a:srgbClr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73160" y="2409840"/>
            <a:ext cx="2076480" cy="1160280"/>
          </a:xfrm>
          <a:custGeom>
            <a:avLst/>
            <a:gdLst/>
            <a:ahLst/>
            <a:rect l="l" t="t" r="r" b="b"/>
            <a:pathLst>
              <a:path w="1308" h="731">
                <a:moveTo>
                  <a:pt x="0" y="731"/>
                </a:moveTo>
                <a:lnTo>
                  <a:pt x="0" y="0"/>
                </a:lnTo>
                <a:lnTo>
                  <a:pt x="1308" y="128"/>
                </a:lnTo>
                <a:lnTo>
                  <a:pt x="0" y="731"/>
                </a:lnTo>
                <a:close/>
              </a:path>
            </a:pathLst>
          </a:custGeom>
          <a:solidFill>
            <a:srgbClr val="ff9999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6080" y="1828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95440" y="2220840"/>
            <a:ext cx="0" cy="231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01840" y="3344760"/>
            <a:ext cx="0" cy="231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1859040" y="2989440"/>
            <a:ext cx="231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877680" y="2808360"/>
            <a:ext cx="231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1972800" y="2641680"/>
            <a:ext cx="20322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74960" y="2655720"/>
            <a:ext cx="203040" cy="20340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97320" y="1347840"/>
            <a:ext cx="1752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5.5 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50" idx="1"/>
          </p:cNvCxnSpPr>
          <p:nvPr/>
        </p:nvCxnSpPr>
        <p:spPr>
          <a:xfrm flipV="1" rot="10800000">
            <a:off x="2634480" y="1622160"/>
            <a:ext cx="762840" cy="10324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871560" y="340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321000" y="3618000"/>
                <a:ext cx="5538960" cy="13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</m:d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5683320" y="3922560"/>
            <a:ext cx="838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332400" y="3922560"/>
            <a:ext cx="790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69320" y="3922560"/>
            <a:ext cx="45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44880" y="5065560"/>
            <a:ext cx="914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30680" y="5065560"/>
            <a:ext cx="114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+ 16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06800" y="5904000"/>
            <a:ext cx="3352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= 60 m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159080" y="2322360"/>
                <a:ext cx="373392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bl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3778200" y="5141880"/>
                <a:ext cx="13953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13:07:38Z</dcterms:created>
  <dc:creator>Don Helms</dc:creator>
  <dc:description/>
  <dc:language>en-US</dc:language>
  <cp:lastModifiedBy>melinda.walden</cp:lastModifiedBy>
  <dcterms:modified xsi:type="dcterms:W3CDTF">2004-03-24T13:06:05Z</dcterms:modified>
  <cp:revision>38</cp:revision>
  <dc:subject/>
  <dc:title>No Slide Title</dc:title>
</cp:coreProperties>
</file>